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6FB1D-2637-4BE4-BEC8-4FA829B568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600" y="3954600"/>
            <a:ext cx="74962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A856B-CB46-47DA-B3E3-235CC0E9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600" y="395460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5800" y="395460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299E8-4106-4D53-90EF-47AD8785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600" y="3954600"/>
            <a:ext cx="24134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9000" y="3954600"/>
            <a:ext cx="24134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3760" y="3954600"/>
            <a:ext cx="24134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418E3-8E77-4EAD-AC3C-FB7F051194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CBE55-9280-47FE-A930-1B69240754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C9BC7-A2A0-4332-940E-27B0321B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46C2B-41CA-4957-BE74-EBA22C3D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A4772-E2FF-4D6B-AC4F-E5F4A469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EFB22-80C8-4E38-8101-C70D40B9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AFD09-F68A-49E9-9A30-D571D21D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4600" y="395460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26123-6060-4F7F-948E-475A9E7F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ABE0E-0EB7-47E2-A670-9A395F0D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5800" y="395460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F0233-8102-4F2C-B97D-FF672821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4600" y="3954600"/>
            <a:ext cx="74962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263F3-8867-445C-8DB8-768F37A4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4600" y="3954600"/>
            <a:ext cx="74962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1B9D1-BDED-4F9F-9C45-CCEFF533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4600" y="395460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5800" y="395460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31BB4-2061-4D08-8F64-3B51E9F9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4600" y="3954600"/>
            <a:ext cx="24134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69000" y="3954600"/>
            <a:ext cx="24134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3760" y="3954600"/>
            <a:ext cx="24134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D2959-5862-47E0-9D60-C7AB10C583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093F1-F8C8-469C-ABC2-91BDE1EC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C6E62-382A-4331-A006-36F5DB98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67780-E6A2-4F03-B831-D06EB671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B27BF-5842-445C-B078-83DC1B14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600" y="395460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B5897-8708-475E-842A-B8C74029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5800" y="395460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9B272-0F04-4BA2-8E86-89CB0EFC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4600"/>
            <a:ext cx="74962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15DF2-E664-4176-9233-AC447153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blockArc">
            <a:avLst>
              <a:gd name="adj1" fmla="val 0"/>
              <a:gd name="adj2" fmla="val 10800000"/>
              <a:gd name="adj3" fmla="val -24959815"/>
            </a:avLst>
          </a:pr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2080" cy="1702080"/>
          </a:xfrm>
          <a:prstGeom prst="ellipse">
            <a:avLst/>
          </a:prstGeom>
          <a:noFill/>
          <a:ln w="27360">
            <a:solidFill>
              <a:srgbClr val="fff4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2340000">
            <a:off x="183960" y="1053720"/>
            <a:ext cx="1125360" cy="1101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efaf6"/>
              </a:gs>
              <a:gs pos="100000">
                <a:srgbClr val="eed18e"/>
              </a:gs>
            </a:gsLst>
            <a:path path="rect">
              <a:fillToRect l="50000" t="50000" r="50000" b="50000"/>
            </a:path>
          </a:gradFill>
          <a:ln w="7200">
            <a:solidFill>
              <a:srgbClr val="c6b7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4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12/06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57DAEB-684A-4353-8369-8F0AA26C7677}" type="slidenum">
              <a: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922320" y="1414440"/>
            <a:ext cx="209520" cy="209520"/>
          </a:xfrm>
          <a:prstGeom prst="ellipse">
            <a:avLst/>
          </a:prstGeom>
          <a:gradFill rotWithShape="0">
            <a:gsLst>
              <a:gs pos="0">
                <a:srgbClr val="daf5fe"/>
              </a:gs>
              <a:gs pos="100000">
                <a:srgbClr val="00aad4"/>
              </a:gs>
            </a:gsLst>
            <a:path path="rect">
              <a:fillToRect l="50000" t="50000" r="50000" b="50000"/>
            </a:path>
          </a:gradFill>
          <a:ln w="2160">
            <a:solidFill>
              <a:srgbClr val="308d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157400" y="1344600"/>
            <a:ext cx="63360" cy="63360"/>
          </a:xfrm>
          <a:prstGeom prst="ellipse">
            <a:avLst/>
          </a:prstGeom>
          <a:noFill/>
          <a:ln w="12600">
            <a:solidFill>
              <a:srgbClr val="317f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8520" indent="0">
              <a:lnSpc>
                <a:spcPct val="11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blockArc">
            <a:avLst>
              <a:gd name="adj1" fmla="val 0"/>
              <a:gd name="adj2" fmla="val 10800000"/>
              <a:gd name="adj3" fmla="val -24959815"/>
            </a:avLst>
          </a:pr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2080" cy="1702080"/>
          </a:xfrm>
          <a:prstGeom prst="ellipse">
            <a:avLst/>
          </a:prstGeom>
          <a:noFill/>
          <a:ln w="27360">
            <a:solidFill>
              <a:srgbClr val="fff4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340000">
            <a:off x="183960" y="1053720"/>
            <a:ext cx="1125360" cy="1101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efaf6"/>
              </a:gs>
              <a:gs pos="100000">
                <a:srgbClr val="eed18e"/>
              </a:gs>
            </a:gsLst>
            <a:path path="rect">
              <a:fillToRect l="50000" t="50000" r="50000" b="50000"/>
            </a:path>
          </a:gradFill>
          <a:ln w="7200">
            <a:solidFill>
              <a:srgbClr val="c6b7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18960" indent="0">
              <a:lnSpc>
                <a:spcPct val="11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18960" indent="-3189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18960" indent="-3189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18960" indent="-3189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18960" indent="-3189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18960" indent="-3189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18960" indent="-3189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12/06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0322D4-DFE4-482E-9D5A-576ACDC4C5FF}" type="slidenum">
              <a: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940360" y="1917720"/>
            <a:ext cx="2303640" cy="1079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Con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2000" y="3284640"/>
            <a:ext cx="2160360" cy="10080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Activ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765000"/>
            <a:ext cx="2376360" cy="863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Autono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4653000"/>
            <a:ext cx="2232000" cy="18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Lecture, discussions, exercices et vidé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989000"/>
            <a:ext cx="2303640" cy="1008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Responsabilité, Ouver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3213000"/>
            <a:ext cx="2303640" cy="11509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Discip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60720" y="1844640"/>
            <a:ext cx="2735280" cy="11509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4581360"/>
            <a:ext cx="2376360" cy="16560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ersévé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4653000"/>
            <a:ext cx="2232000" cy="1800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Outils Multimé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60720" y="3284640"/>
            <a:ext cx="2663640" cy="10080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lais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836640"/>
            <a:ext cx="2592720" cy="719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Action volon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6516720" y="1484280"/>
            <a:ext cx="289440" cy="432720"/>
          </a:xfrm>
          <a:prstGeom prst="bentConnector3">
            <a:avLst>
              <a:gd name="adj1" fmla="val 49937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6227640" y="1484280"/>
            <a:ext cx="1584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Objec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>
            <a:off x="7090920" y="2997360"/>
            <a:ext cx="2520" cy="289440"/>
          </a:xfrm>
          <a:prstGeom prst="bentConnector3">
            <a:avLst>
              <a:gd name="adj1" fmla="val 50000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6661080" y="2925720"/>
            <a:ext cx="15112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En pratiqu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V="1" rot="10800000">
            <a:off x="7127280" y="4292280"/>
            <a:ext cx="180000" cy="361080"/>
          </a:xfrm>
          <a:prstGeom prst="bentConnector3">
            <a:avLst>
              <a:gd name="adj1" fmla="val 49899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6732720" y="4292640"/>
            <a:ext cx="1944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/>
          <p:nvPr/>
        </p:nvCxnSpPr>
        <p:spPr>
          <a:xfrm>
            <a:off x="5292360" y="5084280"/>
            <a:ext cx="864360" cy="73800"/>
          </a:xfrm>
          <a:prstGeom prst="bentConnector3">
            <a:avLst>
              <a:gd name="adj1" fmla="val 50000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cxnSp>
        <p:nvCxnSpPr>
          <p:cNvPr id="112" name=""/>
          <p:cNvCxnSpPr/>
          <p:nvPr/>
        </p:nvCxnSpPr>
        <p:spPr>
          <a:xfrm rot="10800000">
            <a:off x="5363280" y="5083920"/>
            <a:ext cx="793080" cy="72360"/>
          </a:xfrm>
          <a:prstGeom prst="bentConnector3">
            <a:avLst>
              <a:gd name="adj1" fmla="val 50000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92720" y="4653000"/>
            <a:ext cx="1295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Facil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9640" y="620640"/>
            <a:ext cx="863280" cy="360360"/>
          </a:xfrm>
          <a:custGeom>
            <a:avLst/>
            <a:gdLst>
              <a:gd name="textAreaLeft" fmla="*/ 115560 w 863280"/>
              <a:gd name="textAreaRight" fmla="*/ 747720 w 86328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6000" y="620640"/>
            <a:ext cx="1008000" cy="36036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360" y="260280"/>
            <a:ext cx="2519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ouvoir et Voulo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V="1">
            <a:off x="4427280" y="1557000"/>
            <a:ext cx="1369080" cy="288000"/>
          </a:xfrm>
          <a:prstGeom prst="bentConnector3">
            <a:avLst>
              <a:gd name="adj1" fmla="val 50000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4643280" y="1484280"/>
            <a:ext cx="1295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Objec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/>
          <p:nvPr/>
        </p:nvCxnSpPr>
        <p:spPr>
          <a:xfrm flipV="1">
            <a:off x="4390920" y="2997000"/>
            <a:ext cx="37440" cy="288000"/>
          </a:xfrm>
          <a:prstGeom prst="bentConnector3">
            <a:avLst>
              <a:gd name="adj1" fmla="val 49514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492360" y="2925720"/>
            <a:ext cx="2087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Génè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/>
          <p:nvPr/>
        </p:nvCxnSpPr>
        <p:spPr>
          <a:xfrm flipV="1">
            <a:off x="4390560" y="4291920"/>
            <a:ext cx="2520" cy="361080"/>
          </a:xfrm>
          <a:prstGeom prst="bentConnector3">
            <a:avLst>
              <a:gd name="adj1" fmla="val 50000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3348000" y="4292640"/>
            <a:ext cx="1655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roc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6381720"/>
            <a:ext cx="2592360" cy="1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24000" y="1842840"/>
            <a:ext cx="1440" cy="4539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842920" y="1842840"/>
            <a:ext cx="74520" cy="4539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844640"/>
            <a:ext cx="2520720" cy="1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1484280"/>
            <a:ext cx="2592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Qua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20000" y="0"/>
            <a:ext cx="2122560" cy="639000"/>
          </a:xfrm>
          <a:prstGeom prst="rect">
            <a:avLst/>
          </a:prstGeom>
          <a:solidFill>
            <a:srgbClr val="84aa33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L’univers Auto-apprenti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56360" y="1979640"/>
            <a:ext cx="2484360" cy="1079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Vocabulaire d'actualité, compréhension éc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3672000"/>
            <a:ext cx="2160720" cy="10080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Activ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60360" y="360360"/>
            <a:ext cx="2808360" cy="1268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ouvoir mettre en place des processus qui me convien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08720" y="5400720"/>
            <a:ext cx="2232000" cy="1457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Lecture, suivi de l'act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989000"/>
            <a:ext cx="2484360" cy="1008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Responsabilité, Ouver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3213000"/>
            <a:ext cx="2303640" cy="11509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Habitudes, quotid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60720" y="1844640"/>
            <a:ext cx="2735280" cy="11509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Curiosité, envie de faire ce dont j'ai en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581360"/>
            <a:ext cx="2376360" cy="16560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ersévérance, confiance en mo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653000"/>
            <a:ext cx="2232000" cy="1800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Internet, ordinateur, li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60720" y="3284640"/>
            <a:ext cx="2663640" cy="10080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lais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3280" y="836640"/>
            <a:ext cx="2592720" cy="719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Lecture, suivi de l'act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/>
          <p:nvPr/>
        </p:nvCxnSpPr>
        <p:spPr>
          <a:xfrm>
            <a:off x="6516720" y="1484280"/>
            <a:ext cx="289440" cy="432720"/>
          </a:xfrm>
          <a:prstGeom prst="bentConnector3">
            <a:avLst>
              <a:gd name="adj1" fmla="val 49937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6227640" y="1484280"/>
            <a:ext cx="1584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Objec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/>
          <p:nvPr/>
        </p:nvCxnSpPr>
        <p:spPr>
          <a:xfrm>
            <a:off x="7090920" y="2997360"/>
            <a:ext cx="2520" cy="289440"/>
          </a:xfrm>
          <a:prstGeom prst="bentConnector3">
            <a:avLst>
              <a:gd name="adj1" fmla="val 50000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6588000" y="3060720"/>
            <a:ext cx="15112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En pratiqu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30" idx="4"/>
            <a:endCxn id="145" idx="2"/>
          </p:cNvCxnSpPr>
          <p:nvPr/>
        </p:nvCxnSpPr>
        <p:spPr>
          <a:xfrm>
            <a:off x="7020000" y="4680000"/>
            <a:ext cx="613440" cy="721440"/>
          </a:xfrm>
          <a:prstGeom prst="bentConnector3">
            <a:avLst>
              <a:gd name="adj1" fmla="val 49970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6659640" y="4859280"/>
            <a:ext cx="1944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endCxn id="132" idx="1"/>
          </p:cNvCxnSpPr>
          <p:nvPr/>
        </p:nvCxnSpPr>
        <p:spPr>
          <a:xfrm>
            <a:off x="5292720" y="5084280"/>
            <a:ext cx="1443600" cy="529200"/>
          </a:xfrm>
          <a:prstGeom prst="bentConnector3">
            <a:avLst>
              <a:gd name="adj1" fmla="val 49987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 rot="10800000">
            <a:off x="5363280" y="5083920"/>
            <a:ext cx="793080" cy="72360"/>
          </a:xfrm>
          <a:prstGeom prst="bentConnector3">
            <a:avLst>
              <a:gd name="adj1" fmla="val 50000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5292720" y="4653000"/>
            <a:ext cx="1295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Facil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620640"/>
            <a:ext cx="863280" cy="360360"/>
          </a:xfrm>
          <a:custGeom>
            <a:avLst/>
            <a:gdLst>
              <a:gd name="textAreaLeft" fmla="*/ 115560 w 863280"/>
              <a:gd name="textAreaRight" fmla="*/ 747720 w 86328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56000" y="620640"/>
            <a:ext cx="1008000" cy="36036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260280"/>
            <a:ext cx="2519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ouvoir et Voulo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/>
          <p:nvPr/>
        </p:nvCxnSpPr>
        <p:spPr>
          <a:xfrm flipV="1">
            <a:off x="4427280" y="1557000"/>
            <a:ext cx="1369080" cy="288000"/>
          </a:xfrm>
          <a:prstGeom prst="bentConnector3">
            <a:avLst>
              <a:gd name="adj1" fmla="val 50000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4643280" y="1484280"/>
            <a:ext cx="1295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Objec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/>
          <p:nvPr/>
        </p:nvCxnSpPr>
        <p:spPr>
          <a:xfrm flipV="1">
            <a:off x="4390920" y="2997000"/>
            <a:ext cx="37440" cy="288000"/>
          </a:xfrm>
          <a:prstGeom prst="bentConnector3">
            <a:avLst>
              <a:gd name="adj1" fmla="val 49514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3492360" y="2925720"/>
            <a:ext cx="2087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Génè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/>
          <p:nvPr/>
        </p:nvCxnSpPr>
        <p:spPr>
          <a:xfrm flipV="1">
            <a:off x="4390560" y="4291920"/>
            <a:ext cx="2520" cy="361080"/>
          </a:xfrm>
          <a:prstGeom prst="bentConnector3">
            <a:avLst>
              <a:gd name="adj1" fmla="val 50000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3348000" y="4292640"/>
            <a:ext cx="1655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roc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6381720"/>
            <a:ext cx="2592360" cy="1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24000" y="1842840"/>
            <a:ext cx="1440" cy="4539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842920" y="1842840"/>
            <a:ext cx="74520" cy="4539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1844640"/>
            <a:ext cx="2520720" cy="1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00" y="1484280"/>
            <a:ext cx="2592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Qua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20000" y="0"/>
            <a:ext cx="2122560" cy="639000"/>
          </a:xfrm>
          <a:prstGeom prst="rect">
            <a:avLst/>
          </a:prstGeom>
          <a:solidFill>
            <a:srgbClr val="84aa33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L’univers Auto-apprenti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7440" y="333360"/>
            <a:ext cx="2436840" cy="2735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156360" y="692280"/>
            <a:ext cx="2600280" cy="2519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987640" y="3213000"/>
            <a:ext cx="3021120" cy="3240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2916360" y="33336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252360" y="3213000"/>
            <a:ext cx="2592360" cy="324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6083280" y="3284640"/>
            <a:ext cx="2843280" cy="309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vice informatique</cp:lastModifiedBy>
  <dcterms:modified xsi:type="dcterms:W3CDTF">2012-06-12T10:38:26Z</dcterms:modified>
  <cp:revision>1</cp:revision>
  <dc:subject/>
  <dc:title/>
</cp:coreProperties>
</file>